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F1B5-068F-43D4-8293-6C9ABAE4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652-7BAB-4757-B836-E1545ABF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C36-0169-45BD-98B8-A465C1A4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E04-68D3-4D7B-9FD4-5244F265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74FA-E638-4F12-83DC-5CD6C73C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0C36-9A4A-4E94-A63D-B8ED403E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B96E-87B7-4393-BF1F-4A548E80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36BF-11AB-4714-9FBB-48628C79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5DFC-287D-4F01-816F-D8F0AA43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091A-7025-4FFD-B7BA-DDA64DB2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BBF9-52B5-481E-9F7F-7DBFAA64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84C-9E91-495E-AFE4-BFDB87BE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C3AD-288A-4DE3-AE0C-3E17D104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0F9B-41B4-49B5-9C02-1C311207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F2B9-EEC4-4C4C-9F8A-D3BD2A89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8FF5-1CD0-42BD-8F36-CF52AC7F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AB38-1AA7-4DB0-BAF4-9EA6C476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FB6-84F6-40FB-B880-CCA26212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F234-D1FA-470B-84E1-D2AF61D2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12F-54C8-48F1-A0CF-C6F56724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B6B-0A9C-465D-B388-C8EFECEB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CD05-5340-49F5-AD00-1E96D274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81C-8B23-4958-A944-30E23DB4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813-9B34-4D43-AE77-33C57B8B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AAE0-A12A-43A4-8EC6-4310A0ABBDE7}" type="slidenum">
              <a:rPr b="0" lang="pl-PL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6CB9-F6D7-4A6A-AFB0-2BCB928C9820}" type="slidenum">
              <a:rPr b="0" lang="pl-PL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hogmanay.net/hogmanay.htm" TargetMode="External"/><Relationship Id="rId2" Type="http://schemas.openxmlformats.org/officeDocument/2006/relationships/hyperlink" Target="http://www.hogmanay.net/hogmanay.htm" TargetMode="Externa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cc"/>
                </a:solidFill>
                <a:latin typeface="Verdana"/>
              </a:rPr>
              <a:t>SEASONAL FESTIVALS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36600"/>
                </a:solidFill>
                <a:latin typeface="Verdana"/>
              </a:rPr>
              <a:t>The Passive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INDEPENDENCE DAY-USA-4 JUL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4038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Although the Declaration Of Independence </a:t>
            </a: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Verdana"/>
              </a:rPr>
              <a:t>was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not </a:t>
            </a: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Verdana"/>
              </a:rPr>
              <a:t>completed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until August it is celebrated on 4th of Ju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995640" y="2205000"/>
            <a:ext cx="4897440" cy="3673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Verdana"/>
              </a:rPr>
              <a:t>PAST PASSIV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The customs </a:t>
            </a:r>
            <a:r>
              <a:rPr b="0" lang="pl-PL" sz="3200" spc="-1" strike="noStrike">
                <a:solidFill>
                  <a:srgbClr val="ff9933"/>
                </a:solidFill>
                <a:latin typeface="Verdana"/>
              </a:rPr>
              <a:t>WERE BROUGHT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to the USA a long time ag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It </a:t>
            </a:r>
            <a:r>
              <a:rPr b="0" lang="pl-PL" sz="3200" spc="-1" strike="noStrike">
                <a:solidFill>
                  <a:srgbClr val="ff9933"/>
                </a:solidFill>
                <a:latin typeface="Verdana"/>
              </a:rPr>
              <a:t>WAS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first </a:t>
            </a:r>
            <a:r>
              <a:rPr b="0" lang="pl-PL" sz="3200" spc="-1" strike="noStrike">
                <a:solidFill>
                  <a:srgbClr val="ff9933"/>
                </a:solidFill>
                <a:latin typeface="Verdana"/>
              </a:rPr>
              <a:t>HELD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in 1777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77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1" dur="77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77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77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RULE!!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AST PASSIVE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____OR________+THE_________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 OF THE VERB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This picture (be\paint) by Van Gogh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The injured (be\take) to hospital an hour ag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Her car (be\service) every yea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These magazines (be\publish) in Polan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The cinema (be\close) on Monday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HOMEWORK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9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CHOOSE</a:t>
            </a:r>
            <a:r>
              <a:rPr b="0" lang="en-US" sz="3600" spc="-1" strike="noStrike">
                <a:solidFill>
                  <a:srgbClr val="ff9933"/>
                </a:solidFill>
                <a:latin typeface="Verdana"/>
              </a:rPr>
              <a:t> ONE OF BRITISH OR AMERICAN </a:t>
            </a:r>
            <a:r>
              <a:rPr b="0" lang="en-US" sz="4800" spc="-1" strike="noStrike">
                <a:solidFill>
                  <a:srgbClr val="ff9933"/>
                </a:solidFill>
                <a:latin typeface="Verdana"/>
              </a:rPr>
              <a:t>FESTIVALS</a:t>
            </a:r>
            <a:r>
              <a:rPr b="0" lang="en-US" sz="3600" spc="-1" strike="noStrike">
                <a:solidFill>
                  <a:srgbClr val="ff9933"/>
                </a:solidFill>
                <a:latin typeface="Verdana"/>
              </a:rPr>
              <a:t> AND DESCRIBE HOW IT IS CELEBRATED.</a:t>
            </a:r>
            <a:br>
              <a:rPr sz="3600"/>
            </a:br>
            <a:r>
              <a:rPr b="0" lang="en-US" sz="3600" spc="-1" strike="noStrike">
                <a:solidFill>
                  <a:srgbClr val="ff9933"/>
                </a:solidFill>
                <a:latin typeface="Verdana"/>
              </a:rPr>
              <a:t>USE </a:t>
            </a:r>
            <a:r>
              <a:rPr b="0" lang="en-US" sz="4800" spc="-1" strike="noStrike">
                <a:solidFill>
                  <a:srgbClr val="ff9933"/>
                </a:solidFill>
                <a:latin typeface="Verdana"/>
              </a:rPr>
              <a:t>THE PRESENT AND PAST PASSIVE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EFUL WEBSITES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 rot="3592800">
            <a:off x="2187000" y="2530440"/>
            <a:ext cx="45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03280" y="2060640"/>
            <a:ext cx="743760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f9999"/>
                </a:solidFill>
                <a:uFillTx/>
                <a:latin typeface="Verdana"/>
                <a:hlinkClick r:id="rId2"/>
              </a:rPr>
              <a:t>www.hogmanay.net/hogmanay.ht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 this web page will provide you with lots of information about the Hogmanay celebrations throughout Great Bri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users.zetnet.co.uk/cornwall/helston.html - here you will find lots of information about the Helston ‘Furry ( Floral ) Danc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theholidayspot.com/july4/history.htm - all the necessary information about the independence day is here for you to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ilstar.net/holidays/thankstr.htm - the history of Thanskgiving right here at your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ww.halloween.com - if you are not easily scared feel free to visit this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ww.links-url-like.com - this page will help you find your way through the festivals and traditions of W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77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770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Verdana"/>
              </a:rPr>
              <a:t>Seasonal Festivals – The passiv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by Alina Kasner-Sokołowsk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Zespół Szkół im.J.Kilińskieg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Krapkow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Verdana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The Helston ‘Furry (Floral) Dance – Engl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Eisteddfods – W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Hogmanay – Scotl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Halloween  - USA &amp; U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Thanksgiving – 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4 July - 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Verdana"/>
              </a:rPr>
              <a:t>The Present Passiv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Verdana"/>
              </a:rPr>
              <a:t>The Past Passiv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URRY DANCE - ENGLAN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One of the oldest festivals in Brita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It celebrates the coming of sp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All the streets</a:t>
            </a: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Verdana"/>
              </a:rPr>
              <a:t> are decorated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with flow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 rot="900000">
            <a:off x="4211640" y="1989000"/>
            <a:ext cx="3855960" cy="4176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ISTEDDFODS - WAL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A tradition of storytelling, poetry and singing began in the castles of the Welsh prin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Nowadays eisteddfods </a:t>
            </a: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Verdana"/>
              </a:rPr>
              <a:t>are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Verdana"/>
              </a:rPr>
              <a:t>held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every year for the competing poets &amp; sing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2967120" cy="4456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HOGMANAY - SCOTLAN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90384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Verdana"/>
              </a:rPr>
              <a:t>Scottish New Year </a:t>
            </a:r>
            <a:r>
              <a:rPr b="1" i="1" lang="pl-PL" sz="3200" spc="-1" strike="noStrike" u="sng">
                <a:solidFill>
                  <a:srgbClr val="ffffcc"/>
                </a:solidFill>
                <a:uFillTx/>
                <a:latin typeface="Verdana"/>
              </a:rPr>
              <a:t>is celebrated</a:t>
            </a:r>
            <a:r>
              <a:rPr b="0" lang="pl-PL" sz="3200" spc="-1" strike="noStrike">
                <a:solidFill>
                  <a:srgbClr val="ffffcc"/>
                </a:solidFill>
                <a:latin typeface="Verdana"/>
              </a:rPr>
              <a:t> with bagpipe music and dancing in the stree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1779480" cy="1873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1589040" cy="2087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356000" y="1773360"/>
            <a:ext cx="2376720" cy="1806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6877080" y="1916280"/>
            <a:ext cx="2050920" cy="1558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Verdana"/>
              </a:rPr>
              <a:t>PRESENT PASSIV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Verdana"/>
              </a:rPr>
              <a:t>The streets </a:t>
            </a:r>
            <a:r>
              <a:rPr b="0" lang="pl-PL" sz="4000" spc="-1" strike="noStrike">
                <a:solidFill>
                  <a:srgbClr val="cccc00"/>
                </a:solidFill>
                <a:latin typeface="Verdana"/>
              </a:rPr>
              <a:t>ARE DECORAT</a:t>
            </a:r>
            <a:r>
              <a:rPr b="0" lang="pl-PL" sz="4000" spc="-1" strike="noStrike" u="sng">
                <a:solidFill>
                  <a:srgbClr val="cccc00"/>
                </a:solidFill>
                <a:uFillTx/>
                <a:latin typeface="Verdana"/>
              </a:rPr>
              <a:t>ED</a:t>
            </a:r>
            <a:r>
              <a:rPr b="0" lang="pl-PL" sz="4000" spc="-1" strike="noStrike">
                <a:solidFill>
                  <a:srgbClr val="ffffff"/>
                </a:solidFill>
                <a:latin typeface="Verdana"/>
              </a:rPr>
              <a:t> with flowers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Verdana"/>
              </a:rPr>
              <a:t>New Year </a:t>
            </a:r>
            <a:r>
              <a:rPr b="0" lang="pl-PL" sz="4000" spc="-1" strike="noStrike">
                <a:solidFill>
                  <a:srgbClr val="ff9933"/>
                </a:solidFill>
                <a:latin typeface="Verdana"/>
              </a:rPr>
              <a:t>IS CELEBRAT</a:t>
            </a:r>
            <a:r>
              <a:rPr b="0" lang="pl-PL" sz="4000" spc="-1" strike="noStrike" u="sng">
                <a:solidFill>
                  <a:srgbClr val="ff9933"/>
                </a:solidFill>
                <a:uFillTx/>
                <a:latin typeface="Verdana"/>
              </a:rPr>
              <a:t>ED</a:t>
            </a:r>
            <a:r>
              <a:rPr b="0" lang="pl-PL" sz="4000" spc="-1" strike="noStrike">
                <a:solidFill>
                  <a:srgbClr val="ffffff"/>
                </a:solidFill>
                <a:latin typeface="Verdana"/>
              </a:rPr>
              <a:t> with bagpipe music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77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77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RULE!!!!!!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ESENT PASSIVE 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_____OR________+THE________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 OF THE VERB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HALLOWEEN- USA&amp;UK-31 OCTOB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Verdana"/>
              </a:rPr>
              <a:t>was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Verdana"/>
              </a:rPr>
              <a:t>begun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by the Celts over 2000 years ag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he customs </a:t>
            </a: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Verdana"/>
              </a:rPr>
              <a:t>were brought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to the USA by the Irish immigra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2328840" cy="2409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 rot="521400">
            <a:off x="4140000" y="3500280"/>
            <a:ext cx="2092320" cy="28767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 rot="957000">
            <a:off x="6156000" y="3715920"/>
            <a:ext cx="2500200" cy="2737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Verdana"/>
              </a:rPr>
              <a:t>THANKSGIVING-USA-fourth Thursday in Novemb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It commemorates the days the first American colonists </a:t>
            </a:r>
            <a:r>
              <a:rPr b="1" i="1" lang="pl-PL" sz="3200" spc="-1" strike="noStrike" u="sng">
                <a:solidFill>
                  <a:srgbClr val="000000"/>
                </a:solidFill>
                <a:uFillTx/>
                <a:latin typeface="Verdana"/>
              </a:rPr>
              <a:t>were given</a:t>
            </a: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 food by the native American India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6360" y="3213000"/>
            <a:ext cx="2771640" cy="3429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364000" y="3716280"/>
            <a:ext cx="2481480" cy="2755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6T07:02:10Z</dcterms:created>
  <dc:creator>Administrator</dc:creator>
  <dc:description/>
  <dc:language>en-US</dc:language>
  <cp:lastModifiedBy>Administrator</cp:lastModifiedBy>
  <dcterms:modified xsi:type="dcterms:W3CDTF">2003-05-16T10:27:18Z</dcterms:modified>
  <cp:revision>5</cp:revision>
  <dc:subject/>
  <dc:title>SEASONAL FESTIVALS</dc:title>
</cp:coreProperties>
</file>